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E2BE-6FC7-4C16-B120-4698F55F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B08F-4A63-4B8B-82D4-4C5BD0618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E85-74CA-4C74-AF20-FC787E79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B5E-C5DA-44FB-8D28-EDC26D7D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7F1-D5EC-44CF-8973-F42EB733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75D-21A6-4F94-82E7-9F5D15CD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4BC-CE9B-4E09-B404-25F0DDB2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89B-F13A-4179-89DD-0E2C9D9B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05D-6E57-446D-95B6-E5407B6E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7C5-DE80-4F70-AA2D-1D1A22A4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106-E346-42AC-A6EF-5122269A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2EB-7186-4F4F-934E-C894B8B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D2C-BC37-4F94-B14D-0F78C4DB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48E-C12C-4D26-A5C5-7C7B1D00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252D-C441-405A-932A-0B564B014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iara Zapa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04840" y="4457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71360" y="51944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iara. Yo vivo en NYC. Yo soy catorce años. Tengo tres hermanas. Estoy buen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71360" y="4761000"/>
            <a:ext cx="517680" cy="749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41320" y="5553000"/>
            <a:ext cx="530280" cy="762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76160" y="51944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52280" y="5541840"/>
            <a:ext cx="506520" cy="712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39680" y="5911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371600" y="4767120"/>
            <a:ext cx="476280" cy="798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7840"/>
            <a:ext cx="469800" cy="931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9600"/>
            <a:ext cx="573120" cy="81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980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8920"/>
            <a:ext cx="646200" cy="9320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22800"/>
            <a:ext cx="645840" cy="932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787320" y="4746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16480" y="6018120"/>
            <a:ext cx="5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9" descr="C:\Documents and Settings\Beth\Desktop\291718_3499100816440_1116569674_n.jpg"/>
          <p:cNvPicPr/>
          <p:nvPr/>
        </p:nvPicPr>
        <p:blipFill>
          <a:blip r:embed="rId12"/>
          <a:stretch/>
        </p:blipFill>
        <p:spPr>
          <a:xfrm>
            <a:off x="84240" y="14479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Beth</cp:lastModifiedBy>
  <dcterms:modified xsi:type="dcterms:W3CDTF">2012-12-01T16:41:52Z</dcterms:modified>
  <cp:revision>104</cp:revision>
  <dc:subject/>
  <dc:title>Profile</dc:title>
</cp:coreProperties>
</file>